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398-3C77-44EC-8252-F2FA6C9C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CFC-0EBB-4501-9EBF-3FF8779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1F9-5315-4D11-ABE3-6AFF2739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B25-7519-4201-B124-A2857B9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754-BC0F-4AD4-91E6-2730E7FE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D83-AE19-4C21-9F2A-311E1EB2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74C-0247-432C-8825-DF6F1C86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67B-8197-4FF2-8746-29DAAC9A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140-AC77-4CF4-805D-C276FF27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7E0-921F-4079-818F-36CDE3A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8FA-B185-4F0B-B5EF-912B795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FD3-B9BA-4386-83CD-214825C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1FD-0329-4BCE-B219-4985C4930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maha.com/yamahavgn/CDA/List/MediaList/0,,CNTID%25253D559535%252526CTID%25253D203600,00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VP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600200"/>
            <a:ext cx="6162480" cy="493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6094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efferson Elementary School's Composers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43400" y="1143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compose their own music using skills learned during their music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38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read and write music using staff notation on paper and with staff notation softw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41972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input their composi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play back their composition and edit it by choosing orchestration, dynamics, tempo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compile all "tracks" into one pie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"burn" the completed work onto a CD that can be played on a CD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s receive individual copies of the finished composi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666720"/>
            <a:ext cx="5638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42244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8991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 to 8 students would come to the music room from 2:20-3:20 for one w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would work in pairs independently and with the teacher to create their compositions using paper and staff notation software.  Sibelius is compatible with the Clavinov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the teacher’s assistance, the students would use the Clavinova to record their compos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completed, all compositions would be merged into one pie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udent would receive a copy of the recorded music to take h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ers Club would run during the “non-performance” months such as January, February, March, and Apr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hundred students divided into ten to twelve groups could potentially meet during thi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mall fee ($3.00) might be collected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 the cost of the CD’s and jewel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988920" y="30492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he Composers Club Migh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897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95680" y="1600200"/>
            <a:ext cx="46483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 Video Clu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uld comp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own mus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uld create a music video using Movie Mak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09560" y="6094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penses and Fu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Based on Quote from 11/0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ail price: $10,998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 price: $6495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hanna Education Foundation Grant: $25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A Musical Budget 2008-2009: Balance $12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TA Musical Budget 2009-2010: Projected $6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Total Funds Available: $43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s Needed: $2200.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198108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ugg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14:23Z</dcterms:created>
  <dc:creator>Home</dc:creator>
  <dc:description/>
  <dc:language>en-US</dc:language>
  <cp:lastModifiedBy>Leslie Twigg</cp:lastModifiedBy>
  <dcterms:modified xsi:type="dcterms:W3CDTF">2009-06-29T14:55:41Z</dcterms:modified>
  <cp:revision>14</cp:revision>
  <dc:subject/>
  <dc:title>Slide 1</dc:title>
</cp:coreProperties>
</file>